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755D99-640B-4649-891A-0A20F93CA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8CAC26-9D05-4AA4-BF9A-5C728E48BCA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934-C60B-413C-B1D5-50ED310A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065-BAF9-4582-97F0-3767844A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461-F3DF-4F6C-8BA3-990DD5E8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84D-137C-4C1D-B307-8C7ADC3F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1F6-EE09-41F1-B21C-F6040418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200-B061-4582-8600-5FD4AF74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398-37EC-4F05-B3B1-B88552DF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601-2A22-47F1-A9B9-6250468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61D-2540-4202-869D-4B389BEA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CA6-0B70-442F-B2CC-887B351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BE4-EEE8-4521-8D77-6A21D60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AD5-2369-4D5E-80E9-5DAFC1D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C2AC-3DF8-4B3D-BF6E-49EF69910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The Nile Basin Development Challenge: 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a component of  </a:t>
            </a:r>
            <a:br>
              <a:rPr sz="3200"/>
            </a:b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the CGIAR Challenge Program on Water and Food</a:t>
            </a:r>
            <a:br>
              <a:rPr sz="4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9999"/>
                </a:solidFill>
                <a:latin typeface="Calibri"/>
              </a:rPr>
              <a:t>Dr. Simon Langan on behalf of the NBDC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P_Logo"/>
          <p:cNvPicPr/>
          <p:nvPr/>
        </p:nvPicPr>
        <p:blipFill>
          <a:blip r:embed="rId1"/>
          <a:stretch/>
        </p:blipFill>
        <p:spPr>
          <a:xfrm>
            <a:off x="579132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00430"/>
          <p:cNvPicPr/>
          <p:nvPr/>
        </p:nvPicPr>
        <p:blipFill>
          <a:blip r:embed="rId2"/>
          <a:stretch/>
        </p:blipFill>
        <p:spPr>
          <a:xfrm>
            <a:off x="851040" y="2803680"/>
            <a:ext cx="1982520" cy="157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3656160" y="2867040"/>
            <a:ext cx="2019240" cy="14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Content Placeholder 3" descr="IMG_0645.JPG"/>
          <p:cNvPicPr/>
          <p:nvPr/>
        </p:nvPicPr>
        <p:blipFill>
          <a:blip r:embed="rId4"/>
          <a:stretch/>
        </p:blipFill>
        <p:spPr>
          <a:xfrm>
            <a:off x="6437160" y="2901960"/>
            <a:ext cx="1949760" cy="14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scales and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to bas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979880" y="3895560"/>
            <a:ext cx="4164120" cy="296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358.JPG"/>
          <p:cNvPicPr/>
          <p:nvPr/>
        </p:nvPicPr>
        <p:blipFill>
          <a:blip r:embed="rId3"/>
          <a:stretch/>
        </p:blipFill>
        <p:spPr>
          <a:xfrm>
            <a:off x="3736800" y="1360440"/>
            <a:ext cx="3560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novation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engagement through digital s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M Planning tools Wat-a-game and happy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lanning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ing out and G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physical, social and economic data collectio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physical, social, economic and integrated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3"/>
          <p:cNvSpPr/>
          <p:nvPr/>
        </p:nvSpPr>
        <p:spPr>
          <a:xfrm>
            <a:off x="1474920" y="500040"/>
            <a:ext cx="1420560" cy="14050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6248520" y="560520"/>
            <a:ext cx="1371600" cy="1344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581280" y="1981080"/>
            <a:ext cx="16765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1523880" y="1001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lih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6400800" y="8780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733920" y="2438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tory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12"/>
          <p:cNvCxnSpPr/>
          <p:nvPr/>
        </p:nvCxnSpPr>
        <p:spPr>
          <a:xfrm>
            <a:off x="2895480" y="1014120"/>
            <a:ext cx="3353760" cy="10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Straight Arrow Connector 14"/>
          <p:cNvCxnSpPr/>
          <p:nvPr/>
        </p:nvCxnSpPr>
        <p:spPr>
          <a:xfrm>
            <a:off x="2557080" y="1828800"/>
            <a:ext cx="948600" cy="83880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6" name="Straight Arrow Connector 16"/>
          <p:cNvCxnSpPr>
            <a:endCxn id="129" idx="3"/>
          </p:cNvCxnSpPr>
          <p:nvPr/>
        </p:nvCxnSpPr>
        <p:spPr>
          <a:xfrm flipV="1">
            <a:off x="5334120" y="1707480"/>
            <a:ext cx="1116720" cy="959400"/>
          </a:xfrm>
          <a:prstGeom prst="straightConnector1">
            <a:avLst/>
          </a:prstGeom>
          <a:ln w="572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37" name="Rounded Rectangle 17"/>
          <p:cNvSpPr/>
          <p:nvPr/>
        </p:nvSpPr>
        <p:spPr>
          <a:xfrm>
            <a:off x="1219320" y="304920"/>
            <a:ext cx="6629400" cy="3429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9"/>
          <p:cNvCxnSpPr/>
          <p:nvPr/>
        </p:nvCxnSpPr>
        <p:spPr>
          <a:xfrm flipH="1">
            <a:off x="3462120" y="3733920"/>
            <a:ext cx="305280" cy="49608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9" name="Straight Arrow Connector 21"/>
          <p:cNvCxnSpPr/>
          <p:nvPr/>
        </p:nvCxnSpPr>
        <p:spPr>
          <a:xfrm>
            <a:off x="5471640" y="3733920"/>
            <a:ext cx="320040" cy="522720"/>
          </a:xfrm>
          <a:prstGeom prst="straightConnector1">
            <a:avLst/>
          </a:prstGeom>
          <a:ln w="572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0" name="TextBox 24"/>
          <p:cNvSpPr/>
          <p:nvPr/>
        </p:nvSpPr>
        <p:spPr>
          <a:xfrm>
            <a:off x="304920" y="4367160"/>
            <a:ext cx="4267080" cy="216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formation 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velihood strategies, choices, constra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tors influencing adoption/lack of ado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ivers of landscape change (social and economi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earch/implementation processes: participation, innovation platforms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4876920" y="4343400"/>
            <a:ext cx="3962160" cy="217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 decision making/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iefs for policy maker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ssages that can be fed to national level plat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ggestions for alternatives to current pract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loted processes that can be used in planning and 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1333440" y="27813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6248520" y="278136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ING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se projects and approaches have been distilled into a series of draft messages. We want to share the DRAFT messages with you and to do this I will ask my colleague Doug Merrey to talk you through the approach and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 they are not perfect, we would really value your honest assessment and how we can improve them and identify anything that is not right or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at 2 things- Cathy on gender and time-li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Significant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g the wall we have a timeline developed from the input of researchers from the NBD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ould ask that you help populate this with other events, such as the creation of the River Basin Authorities, shifts in policy focus 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0" y="533520"/>
            <a:ext cx="9144000" cy="144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0" y="6324480"/>
            <a:ext cx="914400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0" y="380880"/>
            <a:ext cx="9144000" cy="180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SC0366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1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P_Logo"/>
          <p:cNvPicPr/>
          <p:nvPr/>
        </p:nvPicPr>
        <p:blipFill>
          <a:blip r:embed="rId2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198440" y="3352680"/>
            <a:ext cx="771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PWF aims to increase water productivity and resilience of social and ecolog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rough its broad partnerships, it conducts research that leads to local impact and wider chang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Innovation as an evolutiona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process of innovation is evolutionary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e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contex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rivers un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get partly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roblems e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opportunities become ap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ful innovations lead to new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on can be stimulated, accelerated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acilit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Innovation as a social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among actors of all ranks an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learn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ors come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CP_Logo"/>
          <p:cNvPicPr/>
          <p:nvPr/>
        </p:nvPicPr>
        <p:blipFill>
          <a:blip r:embed="rId1"/>
          <a:stretch/>
        </p:blipFill>
        <p:spPr>
          <a:xfrm>
            <a:off x="5791320" y="5653080"/>
            <a:ext cx="2971800" cy="103176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220968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map"/>
          <p:cNvPicPr/>
          <p:nvPr/>
        </p:nvPicPr>
        <p:blipFill>
          <a:blip r:embed="rId2"/>
          <a:stretch/>
        </p:blipFill>
        <p:spPr>
          <a:xfrm>
            <a:off x="573120" y="851040"/>
            <a:ext cx="8153280" cy="4819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e 15"/>
          <p:cNvGrpSpPr/>
          <p:nvPr/>
        </p:nvGrpSpPr>
        <p:grpSpPr>
          <a:xfrm>
            <a:off x="2714760" y="781200"/>
            <a:ext cx="6164280" cy="3628800"/>
            <a:chOff x="2714760" y="781200"/>
            <a:chExt cx="6164280" cy="3628800"/>
          </a:xfrm>
        </p:grpSpPr>
        <p:sp>
          <p:nvSpPr>
            <p:cNvPr id="83" name="Ellipse 8"/>
            <p:cNvSpPr/>
            <p:nvPr/>
          </p:nvSpPr>
          <p:spPr>
            <a:xfrm>
              <a:off x="2714760" y="3571920"/>
              <a:ext cx="500040" cy="642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Ellipse 9"/>
            <p:cNvSpPr/>
            <p:nvPr/>
          </p:nvSpPr>
          <p:spPr>
            <a:xfrm>
              <a:off x="6357960" y="3071880"/>
              <a:ext cx="500040" cy="6429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0"/>
            <p:cNvSpPr/>
            <p:nvPr/>
          </p:nvSpPr>
          <p:spPr>
            <a:xfrm>
              <a:off x="4929120" y="3100320"/>
              <a:ext cx="500040" cy="857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Ellipse 11"/>
            <p:cNvSpPr/>
            <p:nvPr/>
          </p:nvSpPr>
          <p:spPr>
            <a:xfrm>
              <a:off x="4181400" y="3376800"/>
              <a:ext cx="428400" cy="4284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2"/>
            <p:cNvSpPr/>
            <p:nvPr/>
          </p:nvSpPr>
          <p:spPr>
            <a:xfrm>
              <a:off x="4991040" y="4081680"/>
              <a:ext cx="323640" cy="328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Ellipse 13"/>
            <p:cNvSpPr/>
            <p:nvPr/>
          </p:nvSpPr>
          <p:spPr>
            <a:xfrm>
              <a:off x="5848560" y="3029040"/>
              <a:ext cx="475920" cy="5000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ZoneTexte 14"/>
            <p:cNvSpPr/>
            <p:nvPr/>
          </p:nvSpPr>
          <p:spPr>
            <a:xfrm>
              <a:off x="6169680" y="781200"/>
              <a:ext cx="2709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Gill Sans MT"/>
                </a:rPr>
                <a:t>Phase 2, </a:t>
              </a:r>
              <a:r>
                <a:rPr b="0" lang="fr-FR" sz="1600" spc="-1" strike="noStrike">
                  <a:solidFill>
                    <a:srgbClr val="ff0000"/>
                  </a:solidFill>
                  <a:latin typeface="Gill Sans MT"/>
                </a:rPr>
                <a:t>start</a:t>
              </a:r>
              <a:r>
                <a:rPr b="0" lang="fr-FR" sz="2800" spc="-1" strike="noStrike">
                  <a:solidFill>
                    <a:srgbClr val="ff0000"/>
                  </a:solidFill>
                  <a:latin typeface="Gill Sans MT"/>
                </a:rPr>
                <a:t> 20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Basin Development Challenges (BD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le –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anagement in landsc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es – Benefit sharing mechani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nges – intensification in coastal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popo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nagement and wate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kong – dams, reservoirs and livelih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ta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ainwa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nagement and small reservoir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CG staff show your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associated directly with the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ug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Learning from the past – past experiences in research on land and rainwater management, rainwater harvesting, land conservation, and livelihoods in the highlands of Ethiop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2 Integrated rainwater management strategies – technologies, institutions and polic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3 Targeting and scaling 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4 Assessing and anticipating consequences of innov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5 Coordination and multi-stakeholder plat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460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alibri"/>
              </a:rPr>
              <a:t>Nile BDC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ies and cat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Nile River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P_Logo"/>
          <p:cNvPicPr/>
          <p:nvPr/>
        </p:nvPicPr>
        <p:blipFill>
          <a:blip r:embed="rId1"/>
          <a:stretch/>
        </p:blipFill>
        <p:spPr>
          <a:xfrm>
            <a:off x="5962680" y="5653080"/>
            <a:ext cx="29718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6:57:05Z</dcterms:created>
  <dc:creator>amohammed</dc:creator>
  <dc:description/>
  <dc:language>en-US</dc:language>
  <cp:lastModifiedBy>Langan, Simon (IWMI)</cp:lastModifiedBy>
  <cp:lastPrinted>2008-09-21T21:13:43Z</cp:lastPrinted>
  <dcterms:modified xsi:type="dcterms:W3CDTF">2013-02-20T05:32:33Z</dcterms:modified>
  <cp:revision>552</cp:revision>
  <dc:subject/>
  <dc:title>Slide 1</dc:title>
</cp:coreProperties>
</file>